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114-53A9-41BD-88D4-A138E665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C42-C5D1-4D2D-9783-5186C621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0BF-33DB-4043-97E3-0A6CA5AA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654-1144-42F2-B584-1AE28976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FA94-176B-438C-9946-360EA588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26C0-49E9-49C5-B1EC-CD50C6F9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FD9B-E0A1-4293-BDE0-BD2A943C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FBA8-7C7F-4C5F-B405-C4F79A71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2DB2-EE0F-4F06-B790-3048DF9A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A01F-6B34-4C23-B24F-9A4552DA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7448-AAB5-483A-AA30-CFF6BA55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C49-900D-43B9-A8BD-A45DD687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7E8A-E6A8-418F-9BD3-D1CFEF44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4F81-4272-479A-BA76-902C9308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2B27-4324-4812-82CC-063195D7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9E9C-F0F1-4B54-BD02-726B0DF7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5DC8-7CEB-481A-B36B-B08F94F1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2D5-4D62-459B-AE8B-0938F36E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04F-3194-4F24-BE2A-6B439C25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4FF-17B8-49AB-AD42-517FE915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8E4-DE7C-4021-82D5-0241BECF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C13-1E23-457D-BEB2-57A190E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491-D0A6-4E20-9DFF-A793C801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B2E-6610-4CED-AC38-E2A59F8C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2c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2c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66E9-0547-412F-954C-0C08848D2172}" type="slidenum">
              <a:rPr b="0" lang="en-US" sz="1400" spc="-1" strike="noStrike">
                <a:solidFill>
                  <a:srgbClr val="fde2c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2c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2c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de2c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6742-F010-4415-AE81-379CEF775879}" type="slidenum">
              <a:rPr b="0" lang="en-US" sz="1400" spc="-1" strike="noStrike">
                <a:solidFill>
                  <a:srgbClr val="fde2c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de2c4"/>
                </a:solidFill>
                <a:latin typeface="Tahoma"/>
              </a:rPr>
              <a:t>WRITING NONFICTION</a:t>
            </a:r>
            <a:endParaRPr b="0" i="1" lang="en-US" sz="6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Day 1:  Brainstorm/Research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Day 2: Write and submit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de2c4"/>
                </a:solidFill>
                <a:uFillTx/>
                <a:latin typeface="Tahoma"/>
              </a:rPr>
              <a:t>REQUIREMENTS</a:t>
            </a:r>
            <a:endParaRPr b="0" i="1" lang="en-US" sz="40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Cambria"/>
                <a:ea typeface="ＭＳ 明朝"/>
              </a:rPr>
              <a:t>1.</a:t>
            </a:r>
            <a:r>
              <a:rPr b="0" lang="en-US" sz="2000" spc="-1" strike="noStrike">
                <a:solidFill>
                  <a:srgbClr val="fde2c4"/>
                </a:solidFill>
                <a:latin typeface="Cambria"/>
                <a:ea typeface="ＭＳ 明朝"/>
              </a:rPr>
              <a:t>	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Clear topic (</a:t>
            </a:r>
            <a:r>
              <a:rPr b="1" lang="en-US" sz="2100" spc="-1" strike="noStrike">
                <a:solidFill>
                  <a:srgbClr val="42fbfd"/>
                </a:solidFill>
                <a:latin typeface="Cambria"/>
                <a:ea typeface="ＭＳ 明朝"/>
              </a:rPr>
              <a:t>main idea/conclusion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):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2.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	</a:t>
            </a:r>
            <a:r>
              <a:rPr b="1" lang="en-US" sz="2100" spc="-1" strike="noStrike">
                <a:solidFill>
                  <a:srgbClr val="42fbfd"/>
                </a:solidFill>
                <a:latin typeface="Cambria"/>
                <a:ea typeface="ＭＳ 明朝"/>
              </a:rPr>
              <a:t>Purpose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 for writing - </a:t>
            </a:r>
            <a:r>
              <a:rPr b="1" lang="en-US" sz="2100" spc="-1" strike="noStrike">
                <a:solidFill>
                  <a:srgbClr val="fd28ed"/>
                </a:solidFill>
                <a:latin typeface="Cambria"/>
                <a:ea typeface="ＭＳ 明朝"/>
              </a:rPr>
              <a:t>INFORM  PERSUADE  WARN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  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3.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	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Your </a:t>
            </a:r>
            <a:r>
              <a:rPr b="1" lang="en-US" sz="2100" spc="-1" strike="noStrike">
                <a:solidFill>
                  <a:srgbClr val="42fbfd"/>
                </a:solidFill>
                <a:latin typeface="Cambria"/>
                <a:ea typeface="ＭＳ 明朝"/>
              </a:rPr>
              <a:t>Tone/Attitude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 about the topic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4.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	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Clear </a:t>
            </a:r>
            <a:r>
              <a:rPr b="1" lang="en-US" sz="2100" spc="-1" strike="noStrike">
                <a:solidFill>
                  <a:srgbClr val="42fbfd"/>
                </a:solidFill>
                <a:latin typeface="Cambria"/>
                <a:ea typeface="ＭＳ 明朝"/>
              </a:rPr>
              <a:t>Organizational Structure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5.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	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Use of </a:t>
            </a:r>
            <a:r>
              <a:rPr b="1" lang="en-US" sz="2100" spc="-1" strike="noStrike">
                <a:solidFill>
                  <a:srgbClr val="42fbfd"/>
                </a:solidFill>
                <a:latin typeface="Cambria"/>
                <a:ea typeface="ＭＳ 明朝"/>
              </a:rPr>
              <a:t>Argument Techniques</a:t>
            </a:r>
            <a:r>
              <a:rPr b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 (minimum of 2 each)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a. Statistics (fact using numbers)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b. Expert Opinion/Authority (credible source in the field)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c. Logical Appeal (analogy, common sense connection, etc.)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de2c4"/>
                </a:solidFill>
                <a:latin typeface="Cambria"/>
                <a:ea typeface="ＭＳ 明朝"/>
              </a:rPr>
              <a:t>d. Emotional Appeal (use of emotionally-charged language)</a:t>
            </a: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de2c4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714640" y="1752120"/>
            <a:ext cx="2895480" cy="3886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   </a:t>
            </a:r>
            <a:r>
              <a:rPr b="0" lang="en-US" sz="2800" spc="-1" strike="noStrike" u="sng">
                <a:solidFill>
                  <a:srgbClr val="fde2c4"/>
                </a:solidFill>
                <a:uFillTx/>
                <a:latin typeface="Tahoma"/>
              </a:rPr>
              <a:t>PARAGRAPHS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Intro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Body - # of paragraphs depends on structure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e2c4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57200"/>
            <a:ext cx="5029200" cy="6054120"/>
          </a:xfrm>
          <a:prstGeom prst="rect">
            <a:avLst/>
          </a:prstGeom>
          <a:solidFill>
            <a:srgbClr val="fde2c4"/>
          </a:solidFill>
          <a:ln w="9360">
            <a:solidFill>
              <a:srgbClr val="5c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c1f00"/>
                </a:solidFill>
                <a:latin typeface="Cambria"/>
                <a:ea typeface="ＭＳ 明朝"/>
              </a:rPr>
              <a:t>ORGANIZATIONAL STRUCTURES</a:t>
            </a:r>
            <a:endParaRPr b="0" lang="en-US" sz="19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Problem / Solution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Give a problem, then explain the solution 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Problem:  Global warming / Solution:  switch to natural gas)</a:t>
            </a:r>
            <a:r>
              <a:rPr b="0" i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 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Cause / Effect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 One thing had a number of effects… you must have at least 2 effects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Getting a bad grades affects: my report card, my homelife, my weekend, my future)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Topical/Description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Describe all aspects of a topic… you must have at least 2 topics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Dogs – breeds, history, caring for, training, playing, etc.)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Compare/Contrast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 Take two things and explain the similarities and the differences 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	</a:t>
            </a:r>
            <a:r>
              <a:rPr b="0" i="1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Life without kids / Life with kids)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Chronological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In order of what happened     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History – WWI… WWII…Vietnam)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de2c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1f00"/>
                </a:solidFill>
                <a:latin typeface="Wingdings"/>
                <a:ea typeface="Wingdings"/>
              </a:rPr>
              <a:t></a:t>
            </a: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Sequential</a:t>
            </a:r>
            <a:r>
              <a:rPr b="0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:  Step-by-Step Instructions        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c1f00"/>
                </a:solidFill>
                <a:latin typeface="Cambria"/>
                <a:ea typeface="ＭＳ 明朝"/>
              </a:rPr>
              <a:t> </a:t>
            </a:r>
            <a:r>
              <a:rPr b="0" lang="en-US" sz="1700" spc="-1" strike="noStrike">
                <a:solidFill>
                  <a:srgbClr val="fd28ed"/>
                </a:solidFill>
                <a:latin typeface="Cambria"/>
                <a:ea typeface="ＭＳ 明朝"/>
              </a:rPr>
              <a:t>(Ex. To bake a cake, first… second… last…)</a:t>
            </a:r>
            <a:endParaRPr b="0" lang="en-US" sz="17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28e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28ed"/>
                </a:solidFill>
                <a:latin typeface="Tahoma"/>
              </a:rPr>
              <a:t>Brainstorm topics and research!</a:t>
            </a:r>
            <a:endParaRPr b="0" lang="en-US" sz="28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Complete the </a:t>
            </a:r>
            <a:r>
              <a:rPr b="0" lang="en-US" sz="2400" spc="-1" strike="noStrike" u="sng">
                <a:solidFill>
                  <a:srgbClr val="fde2c4"/>
                </a:solidFill>
                <a:uFillTx/>
                <a:latin typeface="Tahoma"/>
              </a:rPr>
              <a:t>brainstorm page</a:t>
            </a: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 and submit it before you leave.</a:t>
            </a: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For </a:t>
            </a:r>
            <a:r>
              <a:rPr b="0" lang="en-US" sz="2400" spc="-1" strike="noStrike" u="sng">
                <a:solidFill>
                  <a:srgbClr val="fde2c4"/>
                </a:solidFill>
                <a:uFillTx/>
                <a:latin typeface="Tahoma"/>
              </a:rPr>
              <a:t>direct quotes</a:t>
            </a: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, write WORD FOR WORD what someone said and use quotation marks.  </a:t>
            </a: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For </a:t>
            </a:r>
            <a:r>
              <a:rPr b="0" lang="en-US" sz="2400" spc="-1" strike="noStrike" u="sng">
                <a:solidFill>
                  <a:srgbClr val="fde2c4"/>
                </a:solidFill>
                <a:uFillTx/>
                <a:latin typeface="Tahoma"/>
              </a:rPr>
              <a:t>paraphrasing</a:t>
            </a: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, write it in your own, shortened version.</a:t>
            </a: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Tahoma"/>
              </a:rPr>
              <a:t>Choose a school appropriate topic  :) </a:t>
            </a:r>
            <a:endParaRPr b="0" lang="en-US" sz="24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fde2c4"/>
                </a:solidFill>
                <a:latin typeface="Tahoma"/>
              </a:rPr>
              <a:t>TODAY: </a:t>
            </a:r>
            <a:endParaRPr b="0" i="1" lang="en-US" sz="4500" spc="-1" strike="noStrike">
              <a:solidFill>
                <a:srgbClr val="fde2c4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857040" y="6019920"/>
            <a:ext cx="4606560" cy="520560"/>
          </a:xfrm>
          <a:prstGeom prst="rect">
            <a:avLst/>
          </a:prstGeom>
          <a:solidFill>
            <a:srgbClr val="00ffff"/>
          </a:solidFill>
          <a:ln w="9360">
            <a:solidFill>
              <a:srgbClr val="5c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28ed"/>
                </a:solidFill>
                <a:latin typeface="Tahoma"/>
              </a:rPr>
              <a:t>We will be sharing these!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39:48Z</dcterms:created>
  <dc:creator>Parkland High School</dc:creator>
  <dc:description/>
  <dc:language>en-US</dc:language>
  <cp:lastModifiedBy>Parkland High School</cp:lastModifiedBy>
  <dcterms:modified xsi:type="dcterms:W3CDTF">2012-10-18T15:15:05Z</dcterms:modified>
  <cp:revision>4</cp:revision>
  <dc:subject/>
  <dc:title>WRITING NONFICTION</dc:title>
</cp:coreProperties>
</file>